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3456-D67A-489A-B2BB-E251CE3F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there is a variation with time of day (left edge is 7pm) – assumption is that it varies slightly with network 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ment (not us) continues but modifications are slow to reach stable kernel (at least 2 point releases it se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achieve good throughput – ADD TRANSATLANTIC TPUT GRAPH - if we try hard to install new releases and tune VM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d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cks graphs from PFLDNET (indiv &amp; tcpdel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ment (not us) continues but modifications are slow to reach stable kernel (at least 2 point releases it se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achieve good throughput – ADD TRANSATLANTIC TPUT GRAPH - if we try hard to install new releases and tune VM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ment (not us) continues but modifications are slow to reach stable kernel (at least 2 point releases it se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achieve good throughput – ADD TRANSATLANTIC TPUT GRAPH - if we try hard to install new releases and tune VM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ment (not us) continues but modifications are slow to reach stable kernel (at least 2 point releases it se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achieve good throughput – ADD TRANSATLANTIC TPUT GRAPH - if we try hard to install new releases and tune VM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5DF-5B98-487A-B761-F1CEE912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A04-9C00-4625-A592-A2038102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322-CA47-4AFA-879A-8FDC9035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1F5-B716-4832-B992-2644CC4E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CB9-4512-4E92-897F-43C61D0D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AF0-C2FE-46B8-B31E-9CA85ADB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702-60FF-44E8-BAEE-0B421338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B17-A2AE-4F26-B1BF-FBFBE04A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BE1-6900-40F6-BEEC-144BC898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BD7-CE50-478C-89EF-7AF5B3F8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F2C-465D-44D3-A3D9-0B0F341D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2FD-16C9-4C35-B78F-3635D5A1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E457C726-F50C-4559-B2D3-F0944C0A7472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ep.man.ac.uk/PFLDnet2008/aboutManchester.ph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Progress on EXPReS at JBO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ReS Board Meeting, Utrecht, Ja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lph Spencer and the JBO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1844640"/>
            <a:ext cx="6480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ulticast reduces load on networks when sending to multiple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d009d"/>
                </a:solidFill>
                <a:latin typeface="Arial"/>
              </a:rPr>
              <a:t>Test of multicast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cast UDP stream over JANET academic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 2.2Mbps multicast IPTV streams originating from London,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-hosts on Manchester University campu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Cisco network hardware, 100Mbps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ment of inter-packet arriva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from arrival of packet ‘n’ to arrival of packet ‘n+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cted ~6ms for one 2.2Mbps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E0D-23A3-4FE4-BD1C-5C8B6642B55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06640" y="1792440"/>
            <a:ext cx="201600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ncy spikes of up to 0.5s at intervals of 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xpected behaviour may limit the application of thi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on between streams and between PCs shows a common source of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28840" y="1330200"/>
            <a:ext cx="5608800" cy="466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6d009d"/>
                </a:solidFill>
                <a:latin typeface="Arial"/>
              </a:rPr>
              <a:t>Multic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563-8105-40BD-99CF-757350938A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4720" y="2178000"/>
            <a:ext cx="648000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d009d"/>
                </a:solidFill>
                <a:latin typeface="Arial"/>
              </a:rPr>
              <a:t>Test of multicast topology -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cast traffic routing is not as efficient as unicast on thi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tential concerns for oth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es not look suitable for e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832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243-64B0-442B-BA27-0D0BED3F37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CC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4720" y="1844640"/>
            <a:ext cx="648000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d009d"/>
                </a:solidFill>
                <a:latin typeface="Arial"/>
              </a:rPr>
              <a:t>Stable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 tuning of virtual memory settings to prevent kernel pa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d009d"/>
                </a:solidFill>
                <a:latin typeface="Arial"/>
              </a:rPr>
              <a:t>Experimental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sions of late November 2007 address some memory and performance issues – yet to be tested on our 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CID4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d009d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CID2 can attain 1GE line-rat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not a turn-key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d009d"/>
                </a:solidFill>
                <a:latin typeface="Arial"/>
              </a:rPr>
              <a:t>Futu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 2.6.24 kernel and recent DCCP git tree – not mature enough yet for a definitive statement about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DBF-528D-4CC9-8412-DCA953E2C6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Progress on Digital Interfac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BOBs and all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nathan Hargreaves/Richard Hughes-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The iBOB System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transmi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w able to transfer data at line rate to a test PC over a 10 GE (CX-4)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s A/D connection and interface (Onsala/Metsaho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s to interface to VSI chip on station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network 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also Richard’s 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jitsu switch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4B5-112E-4F17-90BA-723B0FD276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JBO Receiver: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een packet FIFO implemented in the iBOB’s FP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though packets are transmitted at 4Gbps they might ‘bunch up’ and arrive at line speed. The FIFO is intended to smooth them out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10Gb transceiver can run at 200MHz – enough to handle line speed, but the SRAM bandwidth is 167MHz for both read and write. Read out at 4Gbps consumes 64MHz of that. More resource tha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lows from the iBOB to the Station Board defined (see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readout from the SRAM synchronised to the correlator clock, when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orrelator clock is not present, iBOB defaults to test mode using the internal 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SI chip will buffer and reclock data and route it to the Station Board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he new code in hardware using another iBOB to generate test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firmware for the VSI chip and either simulate or test on remote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76D-D949-454E-B209-F24546E7E85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8102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BO Receiver: Block Diagra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8600" y="914400"/>
            <a:ext cx="8686440" cy="5258880"/>
            <a:chOff x="228600" y="914400"/>
            <a:chExt cx="8686440" cy="5258880"/>
          </a:xfrm>
        </p:grpSpPr>
        <p:sp>
          <p:nvSpPr>
            <p:cNvPr id="151" name=""/>
            <p:cNvSpPr/>
            <p:nvPr/>
          </p:nvSpPr>
          <p:spPr>
            <a:xfrm>
              <a:off x="6515640" y="1143000"/>
              <a:ext cx="2160" cy="48009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01240" y="1143000"/>
              <a:ext cx="1080" cy="48009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3480" y="2057040"/>
              <a:ext cx="797400" cy="262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GB R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llow box’ on t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mulink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GB/s CX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3429000"/>
              <a:ext cx="343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45440" y="2057040"/>
              <a:ext cx="1483920" cy="262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k de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lds up to 16 packets in case short bursts arrive at line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9960" y="2057040"/>
              <a:ext cx="1257120" cy="262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AM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-orders out of order packe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nts lost packe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s data out to the correlator at a steady 4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99960" y="5144760"/>
              <a:ext cx="12571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12k x 64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512 packets = 9ms at 4Gbp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9440" y="2286000"/>
              <a:ext cx="1141200" cy="251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SI chip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ffer and reclock data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route it to the left and right polarisation station board (SB) input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30120" y="2743920"/>
              <a:ext cx="11592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30120" y="3544920"/>
              <a:ext cx="11196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74440" y="2742480"/>
              <a:ext cx="11052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74440" y="3544920"/>
              <a:ext cx="10944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9960" y="914400"/>
              <a:ext cx="12571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ck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ck 128MHz clock to correl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6400" y="2971440"/>
              <a:ext cx="1143360" cy="457560"/>
            </a:xfrm>
            <a:prstGeom prst="rightArrow">
              <a:avLst>
                <a:gd name="adj1" fmla="val 50000"/>
                <a:gd name="adj2" fmla="val 62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32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486040" y="2858400"/>
              <a:ext cx="11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486400" y="1371960"/>
              <a:ext cx="1080" cy="14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257080" y="137196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0880" y="2971440"/>
              <a:ext cx="686160" cy="916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64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9360" y="2971440"/>
              <a:ext cx="686160" cy="916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64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86400" y="3772440"/>
              <a:ext cx="1143360" cy="457560"/>
            </a:xfrm>
            <a:prstGeom prst="rightArrow">
              <a:avLst>
                <a:gd name="adj1" fmla="val 50000"/>
                <a:gd name="adj2" fmla="val 62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32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01240" y="2629440"/>
              <a:ext cx="1027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rrelator CL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72080" y="4686480"/>
              <a:ext cx="799560" cy="457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86480" y="4686480"/>
              <a:ext cx="798480" cy="4579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4280" y="5029920"/>
              <a:ext cx="68616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2 x MDR80 ‘VSI’ c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360" y="5258880"/>
              <a:ext cx="137160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Station Bo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14520" y="1713960"/>
              <a:ext cx="799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14800" y="1599480"/>
              <a:ext cx="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14520" y="171396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257480" y="148608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257480" y="1486080"/>
              <a:ext cx="274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7400" y="1486080"/>
              <a:ext cx="216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57840" y="1257480"/>
              <a:ext cx="12571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MHz System Cloc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14520" y="1486080"/>
              <a:ext cx="57204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8MH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01000" y="2286000"/>
              <a:ext cx="914040" cy="686520"/>
            </a:xfrm>
            <a:prstGeom prst="rightArrow">
              <a:avLst>
                <a:gd name="adj1" fmla="val 50000"/>
                <a:gd name="adj2" fmla="val 332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to SB Inp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01000" y="3886920"/>
              <a:ext cx="914040" cy="686520"/>
            </a:xfrm>
            <a:prstGeom prst="rightArrow">
              <a:avLst>
                <a:gd name="adj1" fmla="val 50000"/>
                <a:gd name="adj2" fmla="val 332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to SB Inp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5258880"/>
              <a:ext cx="68652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B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6CF-C45B-4B3D-8AD0-F8C91314F2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etwork Testing Device: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clock increased from 100MHz to 200MHz to allow line speed data flows at 10Gbps (J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jumper bank to select ethernet IP and MAC address (JH &amp; RH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registers, test modes and results can be accessed via ethernet control/response protocol (RH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based software provides user interface to the ethernet control link (RH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based control supersedes the TinySH command line and is seen as a prototype for control of iBOBs sending re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ly testing iBOB to iBOB transfers on be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 lost packets, out of order packets and duplicate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real time field correctly each second – currently it is fixed over a b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over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363-EBE6-4E36-B32A-8C895ECACF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line of JBO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toco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ess on iB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over to Ric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CED-1CD5-4F41-A554-ACCDC6C786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Outline of Work at JBO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4 Outreach work – Alastair Gunn -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1 Connection of 4 e-MERLIN telescopes to JIVE (see under Fabr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2:  The 10 Gbps data link equipment available, awaiting cross connection in Manchester between academic and commercial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bric: Protocols  for high speed networks –Stephen Kershaw : PFLDNet 2008 Manchester 5-7 M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hep.man.ac.uk/PFLDnet2008/aboutManchester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bric:  Input to e-MERLIN correlator at 4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7C1-EBA0-48B5-BA2B-89DDF53104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E-MERLIN---e-VLBI system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84080" y="1143000"/>
            <a:ext cx="757404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DA8-7B63-4A18-B736-244596B66F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Manpow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on and Richard have left the team at JBO (though both still involved with EXP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contract for Jonathan expires Nov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5 FTE in SA1 available for PDRA to work on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4 Outreach work completed, using 0.07 of 0.5  FT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on boards (VSI interfaces) expected summ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 transferring 0.43 FTE from NA4 to 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 get a 6 month no cost extension we will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ep Jonathan on the project as a PDRA until the end of Jul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ow sufficient time for testing the input and output to the e-MERLIN correlator in eVLBI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ep on Stephen for a month or so this summer to help run the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027-7243-4EB0-A906-0E06B8E3B0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691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6d009d"/>
                </a:solidFill>
                <a:latin typeface="Times New Roman"/>
              </a:rPr>
              <a:t>January 2008</a:t>
            </a:r>
            <a:endParaRPr b="0" lang="en-US" sz="5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71640" y="2924280"/>
            <a:ext cx="779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Arial"/>
              </a:rPr>
              <a:t>Network protocol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4448160"/>
            <a:ext cx="7797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d009d"/>
                </a:solidFill>
                <a:latin typeface="Arial"/>
              </a:rPr>
              <a:t>Stephen Kersh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6d009d"/>
                </a:solidFill>
                <a:latin typeface="Arial"/>
              </a:rPr>
              <a:t>TC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1844640"/>
            <a:ext cx="22017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CP suitable for transferring real-time d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data is lost TCP will slow  transmission and retrans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e the feasibility of using TCP for real-tim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84720" y="1258920"/>
            <a:ext cx="5351400" cy="2095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327480" y="3471840"/>
            <a:ext cx="5568840" cy="22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6DD-E7F8-4DDC-97D8-9ADE3C301F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4720" y="1844640"/>
            <a:ext cx="22017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CP using different algorithms for the window/throughput 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variants allow more efficient use of bandwidth and appear more suitable for real-tim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98920" y="1131840"/>
            <a:ext cx="5427720" cy="2454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606840" y="3749760"/>
            <a:ext cx="5411880" cy="2436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6d009d"/>
                </a:solidFill>
                <a:latin typeface="Arial"/>
              </a:rPr>
              <a:t>TCP vari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1840" y="816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6320" y="34290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8CE-21BE-43CB-85B8-D8C770862E9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46440" y="3672000"/>
            <a:ext cx="4048200" cy="25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44720" y="1844640"/>
            <a:ext cx="22017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s of magnitude improvements for speed of recovery with many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s of magnitude reduction in 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ident bursty behaviour – concerns for highly loaded packet switched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6d009d"/>
                </a:solidFill>
                <a:latin typeface="Arial"/>
              </a:rPr>
              <a:t>TCP vari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172040" y="249120"/>
            <a:ext cx="4700520" cy="339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02320" y="344016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te spikes due to burs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D72-A91F-4FE1-8D84-B328087B12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Ralph Spencer</cp:lastModifiedBy>
  <dcterms:modified xsi:type="dcterms:W3CDTF">2008-01-29T11:57:49Z</dcterms:modified>
  <cp:revision>71</cp:revision>
  <dc:subject/>
  <dc:title>Slide 1</dc:title>
</cp:coreProperties>
</file>